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E49-E0D9-44A1-8F25-722F675A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6BD-D9C7-4441-B979-FE4797D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49C-C4D7-4D8E-B055-30C45C6E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4CC-99D8-49AE-A240-2DF520F1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3EDC-B39F-44D3-8662-3F53493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3E55-4949-433F-BE9A-8E7187B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6D3D-381E-47C6-A5DB-ADA4BBEF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217-8579-4636-AEF5-2546B736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9FE6-872F-465E-970B-A588D84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1BC-2ACE-410F-A23F-BD8E445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7786-9BB2-4ADB-B041-3C7577C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4BD-8C66-434A-8623-9A656741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A0DC-29D4-4F74-B8A7-F0A637BC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2E14-9C55-4DDE-A6B9-01540EF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868C-FEE5-4F3C-995C-C43092E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22EE-5BC7-46D0-B18A-583CF1E3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7F75-BF83-4FF7-AE28-0DDCEEF7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A00-10F3-473A-A4A3-1F9A44E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1FE-FEFB-4A8E-AEB1-935BF04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E97-85E0-4205-B6EC-2D2E8746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587-867D-4A3B-947C-0BC06543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F4A-7535-4AF9-B1D1-BD69CF4B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70F-B86A-4454-9AE3-1CD8CAB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B3F-FBFB-4463-82EC-CE14224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B2CD-139C-415F-AD25-F0B418E6CC0B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2548-2121-41DC-A1CA-474A320FC4AC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Să gândim...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um folos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im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cuno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ş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tin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ţ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ele matematice </a:t>
            </a: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î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n</a:t>
            </a:r>
            <a:br>
              <a:rPr sz="4800"/>
            </a:br>
            <a:r>
              <a:rPr b="1" lang="ro-RO" sz="4800" spc="-1" strike="noStrike">
                <a:solidFill>
                  <a:srgbClr val="feec94"/>
                </a:solidFill>
                <a:latin typeface="Times New Roman"/>
              </a:rPr>
              <a:t>practică?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Times New Roman"/>
              </a:rPr>
              <a:t>,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vi</a:t>
            </a:r>
            <a:r>
              <a:rPr b="1" i="1" lang="ro-RO" sz="2400" spc="-1" strike="noStrike">
                <a:solidFill>
                  <a:srgbClr val="ffffff"/>
                </a:solidFill>
                <a:latin typeface="Times New Roman"/>
              </a:rPr>
              <a:t>zibilitatea numerelor naturale-un pas în multiplicarea cunoştinţelor matemat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upa a II-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Dincă Dian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Şuiu Ancuţa,Filip Adelina, Turcitu Andr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lasa a VI-a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00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e conexiuni sunt între matematică şi lumea înconjurăţoare?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Prin învăţarea matematicii voi dobând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Responsabilitate şi capacitate de înţeleg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Creativitate şi curiozitate intelectual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Gândire critică şi gândire sistemic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Identificarea, formularea şi soluţionarea probleme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imes New Roman"/>
              </a:rPr>
              <a:t>Auto-formare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um abordăm în mod creativ rezolvarea problemelor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ulte dintre problemele din lumea reală se pot rezolva, bazându-mă p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divizibilitatea numerelor natu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multiplii şi diviz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- descompuneri în facto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19640" y="4076640"/>
            <a:ext cx="27352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11640" y="4876920"/>
            <a:ext cx="2735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e etape sunt necesare pentru rezolvarea unei problem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itim cu atenţie textu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Determinăm elementele cunoscute şi elementele necunoscute din problemă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Stabilim un raţionament de rezolvare a problemei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Redactăm rezolvarea problemei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Verificăm rezultatul obţinut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521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um calcul</a:t>
            </a: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ăm c.m.m.d.c. al mai multor numere natural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Etap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descompun numerele naturale în produse de puteri de numere prim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aleg factorii primi, comuni, o singură dată, cu exponenţii cei mai mici şi se efectuează produsul 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0" y="0"/>
                <a:ext cx="466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0" y="276120"/>
                <a:ext cx="2001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um calcul</a:t>
            </a: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ăm c.m.m.m.c. al mai multor numere natural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Etap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descompun numerele naturale în produse de puteri de numere prime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Se aleg factorii primi, comuni şi necomuni, o singură dată, cu exponenţii cei mai mari şi se efectuează produsul l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Descompunerea numerelor naturale </a:t>
            </a:r>
            <a:r>
              <a:rPr b="1" lang="ro-RO" sz="3600" spc="-1" strike="noStrike">
                <a:solidFill>
                  <a:srgbClr val="feec94"/>
                </a:solidFill>
                <a:latin typeface="Times New Roman"/>
              </a:rPr>
              <a:t>în factori primi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La ora de educaţie fizică 28 de elevi trebuie aşezaţi în coloane, astfel încât să nu rămână nici un elev în afară. În câte moduri se pot alin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28=(2 *2)*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610320" y="258588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3816360" cy="2665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6520" y="3941640"/>
                <a:ext cx="11588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um putem modela activităţile din viaţa cotidiană folosind numerele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816360" cy="2388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 cofetar a preg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 un num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 de pr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ituri. Dac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şează pe un platou în rând câte 5, 6,7 sau 8, constată că de fiecare dată îi rămân 3prăjitur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âte prăjituri 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făcut cofetarul ştiind c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este cel mai mic numă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u aceste proprietăţ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Cum împărţim mere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flaţi câte mere sunt într-un coş, ştiind că, împărţite la 8 copii, mai rămân 5, împărţite la 6 copii, mai rămân 3 şi împărţite la 5 copii, mai rămân 2 m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are este cel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ai m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număr de dou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ifre cu aceast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roprieta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3384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17:46:29Z</dcterms:created>
  <dc:creator>Popescu Mirela</dc:creator>
  <dc:description/>
  <dc:language>en-US</dc:language>
  <cp:lastModifiedBy>Popescu Mirela</cp:lastModifiedBy>
  <dcterms:modified xsi:type="dcterms:W3CDTF">2010-09-19T14:53:43Z</dcterms:modified>
  <cp:revision>13</cp:revision>
  <dc:subject/>
  <dc:title>Să gândim...</dc:title>
</cp:coreProperties>
</file>